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DAD7-098A-4846-8EB4-3E8600709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698E-B981-44CC-A7FC-8A0F53C7A95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D0F6-CDF0-4177-8584-0E6583D4B70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6DC8-20B0-4E36-9B41-05CB80E7CCC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though Google Docs &amp; Spreadsheets (http://docs.google.com) is currently the recommended online collaborative editing Web site, add the URL of the Web site you have chosen to u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AFFB-D5E5-4536-AC13-BDA1118E66E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F712-8B24-43ED-8F5B-A1E3AB72222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E665-6252-4869-85B1-753B8BD224D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o-RO" sz="1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E14A-8FC4-446F-B534-12BD5AB1B9E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http://isc4lugojna.wikispaces.com/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http://isc3timisoarana.wikispaces.com/  </a:t>
            </a:r>
            <a:r>
              <a:rPr b="1" lang="ro-RO" sz="1200" spc="-1" strike="noStrike">
                <a:solidFill>
                  <a:srgbClr val="ffffff"/>
                </a:solidFill>
                <a:latin typeface="Verdana"/>
              </a:rPr>
              <a:t>http://iscbihor1na.wikispaces.com/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F39B-AC67-4A4F-8A8E-0223CDC8989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1E345-D8C4-4E47-9497-0CAD0CC9EA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3F1A9-924C-482D-A513-58BC11915E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977B0-033C-4806-A117-0B28F3EB5E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9AEF9-4CBE-4B00-BDC5-33360E58A9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55851-9E87-43FF-8E82-9D7209C983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B0B1D-33B4-4619-B9FD-6A377289DE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F7599-4878-4287-8079-060073971E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5C9E6-0166-437F-B032-477E830270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81166-2088-4F1E-A009-7C9A108E6E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5FFB5-508B-4E8E-89C7-161ADC56E0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556C5-2665-4600-ADA1-21378CF4BC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60C17-3844-4C1E-8157-72E868DC4B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98CB-5F34-4F29-A4B6-DC8B091C303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26"/>
          <p:cNvSpPr/>
          <p:nvPr/>
        </p:nvSpPr>
        <p:spPr>
          <a:xfrm>
            <a:off x="1055520" y="6230880"/>
            <a:ext cx="5811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</a:t>
            </a:r>
            <a:r>
              <a:rPr b="0" lang="en-GB" sz="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" name="Picture 27" descr="intelEDU_wht_lrg [Converted]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2"/>
          <p:cNvSpPr/>
          <p:nvPr/>
        </p:nvSpPr>
        <p:spPr>
          <a:xfrm>
            <a:off x="1055520" y="6242040"/>
            <a:ext cx="6015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sc4lugojna.wikispaces.com/" TargetMode="External"/><Relationship Id="rId2" Type="http://schemas.openxmlformats.org/officeDocument/2006/relationships/hyperlink" Target="http://isc4lugojna.wikispaces.com/" TargetMode="External"/><Relationship Id="rId3" Type="http://schemas.openxmlformats.org/officeDocument/2006/relationships/hyperlink" Target="http://isc4lugojna.wikispaces.com/" TargetMode="External"/><Relationship Id="rId4" Type="http://schemas.openxmlformats.org/officeDocument/2006/relationships/package" Target="../embeddings/oleObject1.docx"/><Relationship Id="rId5" Type="http://schemas.openxmlformats.org/officeDocument/2006/relationships/image" Target="../media/image11.wmf"/><Relationship Id="rId6" Type="http://schemas.openxmlformats.org/officeDocument/2006/relationships/package" Target="../embeddings/oleObject2.pptx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Wiki%20blog.pptx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sc4lugojna.blogspot.com/" TargetMode="External"/><Relationship Id="rId2" Type="http://schemas.openxmlformats.org/officeDocument/2006/relationships/package" Target="../embeddings/oleObject1.ppt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sc4lugojna.wikispaces.com/message/list/Modul+3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hyperlink" Target="file:///F:/Curs%20Intel%20Teach/Modul%203/haosul_dreptului_de_autor.ppt" TargetMode="External"/><Relationship Id="rId3" Type="http://schemas.openxmlformats.org/officeDocument/2006/relationships/image" Target="../media/image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9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7" descr="GM__2313"/>
          <p:cNvPicPr/>
          <p:nvPr/>
        </p:nvPicPr>
        <p:blipFill>
          <a:blip r:embed="rId1"/>
          <a:stretch/>
        </p:blipFill>
        <p:spPr>
          <a:xfrm>
            <a:off x="0" y="14400"/>
            <a:ext cx="9144000" cy="50702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400" y="3158640"/>
            <a:ext cx="8267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4440" y="509220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Predarea în societatea cunoaşterii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dul</a:t>
            </a: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ul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3: Realizarea conexiunil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1" name="Picture 10" descr="intelEDU_wht_lrg [Converted]"/>
          <p:cNvPicPr/>
          <p:nvPr/>
        </p:nvPicPr>
        <p:blipFill>
          <a:blip r:embed="rId2"/>
          <a:stretch/>
        </p:blipFill>
        <p:spPr>
          <a:xfrm>
            <a:off x="6759720" y="490680"/>
            <a:ext cx="1774800" cy="885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3"/>
          <p:cNvSpPr/>
          <p:nvPr/>
        </p:nvSpPr>
        <p:spPr>
          <a:xfrm>
            <a:off x="1432080" y="63914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217440" y="6307200"/>
            <a:ext cx="6015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.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A840-8A49-4845-8B9F-CA86EEC6BFC5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6560" y="169560"/>
            <a:ext cx="894708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atea  3</a:t>
            </a:r>
            <a:br>
              <a:rPr sz="26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tilizarea Internetului pentru cercetare 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(40 de minute) </a:t>
            </a:r>
            <a:br>
              <a:rPr sz="1200"/>
            </a:br>
            <a:br>
              <a:rPr sz="1200"/>
            </a:br>
            <a:r>
              <a:rPr b="1" lang="vi-VN" sz="1200" spc="-1" strike="noStrike">
                <a:solidFill>
                  <a:srgbClr val="0860a8"/>
                </a:solidFill>
                <a:latin typeface="Verdana"/>
              </a:rPr>
              <a:t>Descărcaţi de pe site-ul wiki </a:t>
            </a:r>
            <a:r>
              <a:rPr b="1" lang="vi-VN" sz="12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http://isc</a:t>
            </a:r>
            <a:r>
              <a:rPr b="1" lang="en-US" sz="12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4lugojna</a:t>
            </a:r>
            <a:r>
              <a:rPr b="1" lang="vi-VN" sz="1200" spc="-1" strike="noStrike" u="sng">
                <a:solidFill>
                  <a:srgbClr val="f5e647"/>
                </a:solidFill>
                <a:uFillTx/>
                <a:latin typeface="Verdana"/>
                <a:hlinkClick r:id="rId3"/>
              </a:rPr>
              <a:t>.wikispaces.com</a:t>
            </a:r>
            <a:r>
              <a:rPr b="1" lang="en-US" sz="1200" spc="-1" strike="noStrike">
                <a:solidFill>
                  <a:srgbClr val="3a119f"/>
                </a:solidFill>
                <a:latin typeface="Verdana"/>
              </a:rPr>
              <a:t> </a:t>
            </a:r>
            <a:r>
              <a:rPr b="1" lang="vi-VN" sz="1200" spc="-1" strike="noStrike">
                <a:solidFill>
                  <a:srgbClr val="3a119f"/>
                </a:solidFill>
                <a:latin typeface="Verdana"/>
              </a:rPr>
              <a:t> </a:t>
            </a:r>
            <a:r>
              <a:rPr b="1" lang="vi-VN" sz="1200" spc="-1" strike="noStrike">
                <a:solidFill>
                  <a:srgbClr val="0860a8"/>
                </a:solidFill>
                <a:latin typeface="Verdana"/>
              </a:rPr>
              <a:t>Diagrama KWL în folderul Evaluare, completaţi primele două coloane din fiecare slide.</a:t>
            </a:r>
            <a:br>
              <a:rPr sz="1200"/>
            </a:b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4360" y="1800360"/>
            <a:ext cx="873144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 1: Localizarea resurselor Internet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(3.06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n funcţie de experienţa pe care o aveţi, alegeţi o opţiune de căutar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Optiunea 1: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Desfăşurarea unei căutări pe baza de web (page 3.06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Optiunea 2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:Utilizarea motoarelor de căutare specializate (page 3.08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Optiunea 3: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Găsirea şi salvarea imaginilor, sunetelor şi filmelor video de pe site-uri web (page 3.08) Vizualizați și Tutorial descărcare filme  youtube.doc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 2: Evaluarea resurselor web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(3.09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Revedeţi fişierele pentru evaluarea resurselor web, din </a:t>
            </a:r>
            <a:r>
              <a:rPr b="0" lang="en-US" sz="1100" spc="-1" strike="noStrike">
                <a:solidFill>
                  <a:srgbClr val="0860a8"/>
                </a:solidFill>
                <a:latin typeface="Verdana"/>
              </a:rPr>
              <a:t>(</a:t>
            </a:r>
            <a:r>
              <a:rPr b="0" lang="ro-RO" sz="1200" spc="-1" strike="noStrike">
                <a:solidFill>
                  <a:srgbClr val="0860a8"/>
                </a:solidFill>
                <a:latin typeface="Verdana"/>
              </a:rPr>
              <a:t>modulul3/activitatea3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)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liste de verificare/evaluarea critică a informaţiilor de pe Internet şi discutaţi cu un partener rezultatele acestei căutări, modul în care i-aţi putea ajuta pe elevi să evalueze mai critic resursele web pe care le utilizează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ompletaţi planul de uni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34" name="Object 5"/>
          <p:cNvGraphicFramePr/>
          <p:nvPr/>
        </p:nvGraphicFramePr>
        <p:xfrm>
          <a:off x="7659720" y="3481560"/>
          <a:ext cx="1060560" cy="8283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35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59720" y="3481560"/>
                    <a:ext cx="1060560" cy="82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6"/>
          <p:cNvGraphicFramePr/>
          <p:nvPr/>
        </p:nvGraphicFramePr>
        <p:xfrm>
          <a:off x="7839000" y="1609560"/>
          <a:ext cx="922320" cy="692280"/>
        </p:xfrm>
        <a:graphic>
          <a:graphicData uri="http://schemas.openxmlformats.org/presentationml/2006/ole">
            <p:oleObj progId="PowerPoint.Show.12" r:id="rId6" spid="">
              <p:embed/>
              <p:pic>
                <p:nvPicPr>
                  <p:cNvPr id="137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839000" y="1609560"/>
                    <a:ext cx="92232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12C6-56D6-431A-AD7D-0D1E9F78E25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4280" y="149040"/>
            <a:ext cx="86486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Activitatea 4 Comunicarea cu lumea prin Interne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1000" y="771120"/>
            <a:ext cx="87822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 1: Analizarea instrumentelor de comunicare prin Internet </a:t>
            </a:r>
            <a:r>
              <a:rPr b="0" lang="ro-RO" sz="1200" spc="-1" strike="noStrike">
                <a:solidFill>
                  <a:srgbClr val="0860a8"/>
                </a:solidFill>
                <a:latin typeface="Verdana"/>
              </a:rPr>
              <a:t>(3.10/ 10 minute)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Instrumente de comunicare bazate pe Interne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lvl="2" marL="502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70c0"/>
                </a:solidFill>
                <a:latin typeface="Verdana"/>
              </a:rPr>
              <a:t>E-mail =</a:t>
            </a:r>
            <a:r>
              <a:rPr b="0" lang="ro-RO" sz="16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o metodă de comunicare între două persoane;poate fi utilizat pentru multiple scopuri educaţionale (transmiterea liste de probleme, a temelor..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02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lvl="2" marL="502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70c0"/>
                </a:solidFill>
                <a:latin typeface="Verdana"/>
              </a:rPr>
              <a:t>Chat-uri Online =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amere virtuale, unde pe baza unui anumit topic de conversaţie se “întâlnesc” persoane cu interese comune (elevii pot utiliza chat-urile pentru a adresa întrebări, pentru a colabora cu colegii…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02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lvl="2" marL="502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70c0"/>
                </a:solidFill>
                <a:latin typeface="Verdana"/>
              </a:rPr>
              <a:t>Mesaje Instant (IM) =</a:t>
            </a:r>
            <a:r>
              <a:rPr b="0" lang="ro-RO" sz="16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ermit oamenilor să solicite şi să trimită mesaje text în timp real unor persoane de contact preselectate care sunt online în momentul respectiv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ex Skype,Yahoo Messenger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02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lvl="2" marL="502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70c0"/>
                </a:solidFill>
                <a:latin typeface="Verdana"/>
              </a:rPr>
              <a:t>Studiu/Sondaj de opinie =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oate fi realizat pentru a aduna, analiza şi exporta datele de la respondenți; wiki secțiunea discuții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02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lvl="2" marL="502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70c0"/>
                </a:solidFill>
                <a:latin typeface="Verdana"/>
              </a:rPr>
              <a:t>Protocol pentru Internet Voice Over (VoIP) =</a:t>
            </a:r>
            <a:r>
              <a:rPr b="0" lang="ro-RO" sz="16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o tehnologie de comunicare care permite persoanelor din toata lumea să vorbească între ei în timp real sau să efectueze apeluri telefonice prin Internet (ex Skype,Yahoo Messenger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02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lvl="1" marL="216360" indent="-21528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Revedeţi tabelul de la pag 3.11 pentru compararea posibilităţilor de comunicare online (Vezi pag B19 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16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16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7871-FBEC-444C-8B16-83DB1D9418FB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Modul 3:  Realizarea conexiunilor</a:t>
            </a:r>
            <a:br>
              <a:rPr sz="1200"/>
            </a:br>
            <a:br>
              <a:rPr sz="10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 4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Comunicarea cu lumea prin Interne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1680" y="1619280"/>
            <a:ext cx="8751960" cy="380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 2: Analizaţi instrumentele de comunicare pentru a le corela cu unitatea dumneavoastră de învăţa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28960" indent="-22752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electaţi unul sau mai multe dintre următoarele instrumente de comunicaţii pentru a-l examina în detaliu şi utilizare în unitatea dumneavoastră de învăţar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2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60a8"/>
              </a:solidFill>
              <a:latin typeface="Verdana"/>
            </a:endParaRPr>
          </a:p>
          <a:p>
            <a:pPr lvl="2" marL="531360" indent="-3013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Optiunea 1: </a:t>
            </a:r>
            <a:r>
              <a:rPr b="1" lang="ro-RO" sz="1400" spc="-1" strike="noStrike">
                <a:solidFill>
                  <a:srgbClr val="0070c0"/>
                </a:solidFill>
                <a:latin typeface="Verdana"/>
              </a:rPr>
              <a:t>E-mail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 (page 3.12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31360" indent="-3013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Optiunea 2: </a:t>
            </a:r>
            <a:r>
              <a:rPr b="1" lang="ro-RO" sz="1400" spc="-1" strike="noStrike">
                <a:solidFill>
                  <a:srgbClr val="0070c0"/>
                </a:solidFill>
                <a:latin typeface="Verdana"/>
              </a:rPr>
              <a:t>Chat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 (page 3.13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31360" indent="-3013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Optiunea 3: </a:t>
            </a:r>
            <a:r>
              <a:rPr b="1" lang="ro-RO" sz="1400" spc="-1" strike="noStrike">
                <a:solidFill>
                  <a:srgbClr val="0070c0"/>
                </a:solidFill>
                <a:latin typeface="Verdana"/>
              </a:rPr>
              <a:t>Mesaje Instant (IM)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(page 3.13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31360" indent="-3013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Optiunea 4: </a:t>
            </a: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Studiu/Sondaj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(page 3.14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31360" indent="-3013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Optiunea 5: </a:t>
            </a: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Protocol pentru Internet Voice Over (VoIP)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(page 3.15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2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60a8"/>
              </a:solidFill>
              <a:latin typeface="Verdana"/>
            </a:endParaRPr>
          </a:p>
          <a:p>
            <a:pPr lvl="1" marL="228960" indent="-22752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Marcaţi orice resursă cu informaţii utile cu privire la modul de utilizare a acestor instrumente în sala de clasă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2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2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Notă: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Toate site-urile web menţionate în prezentul modul sunt disponibile  in fişierul ”site-uri web pentru modulul 3” din  folder-ul Modulul 3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44" name="Object 5"/>
          <p:cNvGraphicFramePr/>
          <p:nvPr/>
        </p:nvGraphicFramePr>
        <p:xfrm>
          <a:off x="7304040" y="155520"/>
          <a:ext cx="1278000" cy="99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4040" y="155520"/>
                    <a:ext cx="127800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9D00-037E-4356-8F12-1F227397ADA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90160" y="272880"/>
            <a:ext cx="885348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atea 5: Studiul 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ăţă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ii prin co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operare prin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web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pag 3.16/ 20 minute)</a:t>
            </a: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760" y="2015640"/>
            <a:ext cx="8237520" cy="17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lvl="1" marL="221400" indent="-22032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nalizaţi avantajele şi dezavantajele fiecărei resurse din </a:t>
            </a:r>
            <a:r>
              <a:rPr b="1" i="1" lang="ro-RO" sz="1800" spc="-1" strike="noStrike">
                <a:solidFill>
                  <a:srgbClr val="0860a8"/>
                </a:solidFill>
                <a:latin typeface="Verdana"/>
              </a:rPr>
              <a:t>tabelul de l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i="1" lang="ro-RO" sz="1800" spc="-1" strike="noStrike">
                <a:solidFill>
                  <a:srgbClr val="0860a8"/>
                </a:solidFill>
                <a:latin typeface="Verdana"/>
              </a:rPr>
              <a:t>pag.3.16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21400" indent="-22032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xploraţi online site-uri web de colaborare; aceste informaţii vă vor ajuta să luaţi în considerare felul în care puteţi utiliza aceste instrumente pentru a sprijini obiectivele de învăţare şi colaborarea elevilor în cadrul unităţii dumneavoastr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21400" indent="-22032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ik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, Blog,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Forumul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 discuți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,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Tutorial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,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ortal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,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Web 2.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214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1036-C685-455A-A245-6A8704A3EDF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272880"/>
            <a:ext cx="89154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Module 3: Realizarea conexiunilor</a:t>
            </a:r>
            <a:br>
              <a:rPr sz="1200"/>
            </a:br>
            <a:br>
              <a:rPr sz="10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 6: Utilizarea site-ului de colaborare online pentru a  schimba idei </a:t>
            </a:r>
            <a:r>
              <a:rPr b="0" lang="ro-RO" sz="1200" spc="-1" strike="noStrike">
                <a:solidFill>
                  <a:srgbClr val="0860a8"/>
                </a:solidFill>
                <a:latin typeface="Verdana"/>
              </a:rPr>
              <a:t>(3.20/40 minute) 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1514160"/>
            <a:ext cx="842148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lvl="1" marL="238680" indent="-23724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Vizitaţi site-ul web de colaborarea online : </a:t>
            </a:r>
            <a:r>
              <a:rPr b="0" lang="ro-RO" sz="1600" spc="-1" strike="noStrike">
                <a:solidFill>
                  <a:srgbClr val="ff0000"/>
                </a:solidFill>
                <a:latin typeface="Verdana"/>
              </a:rPr>
              <a:t>[docs.google.com]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onectar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326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Deschideţi programul online de calcul tabelar : </a:t>
            </a:r>
            <a:r>
              <a:rPr b="0" lang="ro-RO" sz="16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0" lang="it-IT" sz="1600" spc="-1" strike="noStrike">
                <a:solidFill>
                  <a:srgbClr val="ff0000"/>
                </a:solidFill>
                <a:latin typeface="Verdana"/>
              </a:rPr>
              <a:t>Grupa 4 Lugoj Unitati de invatare</a:t>
            </a:r>
            <a:r>
              <a:rPr b="0" lang="ro-RO" sz="1600" spc="-1" strike="noStrike">
                <a:solidFill>
                  <a:srgbClr val="ff0000"/>
                </a:solidFill>
                <a:latin typeface="Verdana"/>
              </a:rPr>
              <a:t>]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 / </a:t>
            </a:r>
            <a:r>
              <a:rPr b="0" lang="ro-RO" sz="1800" spc="-1" strike="noStrike">
                <a:solidFill>
                  <a:srgbClr val="ff0000"/>
                </a:solidFill>
                <a:latin typeface="Verdana"/>
              </a:rPr>
              <a:t>Registru date personale cursanti Lugoj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 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Deschideţi fişa de lucru online şi căutaţi unde aveţi atribuit un rând, unde veţi putea introduce informaţiil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lvl="1" marL="238680" indent="-23724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dăugaţi informaţii din Planul dumneavoastră de Unitate în fişa de calcul tabelar online;(specificaţi numele dumneavoastră pe lini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38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lvl="1" marL="238680" indent="-23724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nalizaţi unităţile care sunt create de ceilalţi profesori din intervalul claselor la care predaţi dumneavoastră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38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lvl="1" marL="238680" indent="-23724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Luaţi în considerare următoarele aspecte în momentul analizei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54400" indent="-31428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Unităţile lor sunt similare sau complementare acesteia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54400" indent="-31428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Activitatea desfasurată cu un alt profesor ar fi benefică pentru dumneavoastră pe masură ce va dezvoltaţi ideile de unitate şi componentele portofoliului de unitate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54400" indent="-31428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Contactaţi profesorii cu care aţi dori să colaboraţi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6CCA-A617-4D49-B121-E2D20264DCBD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 conexiun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ate  6: Utilizarea site-ului de colaborare online pentru a face schimburi de ide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3.21)</a:t>
            </a: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5760" y="2016000"/>
            <a:ext cx="823752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t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asupra urm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oarelor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treb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i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grupuri mici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v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â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d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vedere punctel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provoc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ile fiec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ui instrument, cum ar putea acestea s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v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jute s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ting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obiectivele d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 ale unit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i dumneavoastr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um 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putea structura utilizarea instrumentelor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sala de clas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pentru a v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sigura c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elevii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v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e schimb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i propun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?(extind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ideile pentru utilizarea Int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netului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unitatea dumneavoastr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d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 pe parcursul activit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i Planificarea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avan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formatii despre construirea unui site de editare in colaborare pentru propriul curs ( pag B31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6DE4-7899-4C17-8EE5-F13C80295D95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99520" y="272880"/>
            <a:ext cx="85028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atea  7</a:t>
            </a:r>
            <a:br>
              <a:rPr sz="26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ţie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asupra propriei 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ăţă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i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 pag 3.22/5 minute)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5760" y="1574280"/>
            <a:ext cx="830736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Pas  1: Recapitularea modulului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860a8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Elementele cheie pentru modulul 3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nternetul poate fi un instrument puternic de cercetare, colaborare si comunicare cu al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i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nstruc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unile pentru o utilizare loial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descriu modurile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care materialele protejate de drepturile de autor pot fi folosite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mod legal de c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re profesori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elevi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clas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Listele  bibliografi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c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 pot fi create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diverse formate pentru elevi de toate v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â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stele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tilizarea profesionist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a strategiilor de cercetare permite elevilor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profesorilor s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g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seasc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informa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i utile pe web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mod eficient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 varietate de factori  trebuie lua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considerare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momentul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care se stabile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e credibilitatea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valoarea unui site web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nstrumentele care permit elevilor s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comunice cu persoane din toat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lumea prin Internet: E-mail, Chat-uri online, mesaje instant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protocol pentru Internet  Voice Over IP;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Blog-uri, wiki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documente  online, permit elevilor s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colaboreze la proiecte prin partajarea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oferirea de r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spunsuri cu privire la activitatea celorlalte persoane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304920" y="1908000"/>
            <a:ext cx="8534160" cy="3857760"/>
          </a:xfrm>
          <a:prstGeom prst="rect">
            <a:avLst/>
          </a:prstGeom>
          <a:noFill/>
          <a:ln w="2844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E761-A927-4E1F-BAD9-8C116B5A5FE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455760" y="1482840"/>
            <a:ext cx="8383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 2: Introducerea experienţei în blo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Reflectaţi asupra activităţilor şi abordărilor incluse în acest modul în blog-ul dumneavoastră personal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100000"/>
              </a:lnSpc>
              <a:spcBef>
                <a:spcPts val="11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Deschideţi blog-ul: </a:t>
            </a:r>
            <a:r>
              <a:rPr b="0" lang="ro-RO" sz="24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http://isc4lugojna.blogspot.com/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10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Reflectaţi asupra modului în care punctul central al acestui modul v-a ajutat să planificaţi şi să creaţi unitatea dumneavoastră de învăţar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100000"/>
              </a:lnSpc>
              <a:spcBef>
                <a:spcPts val="451"/>
              </a:spcBef>
              <a:buClr>
                <a:srgbClr val="7f2e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7f2e00"/>
                </a:solidFill>
                <a:latin typeface="Verdana"/>
              </a:rPr>
              <a:t>Cum pot utiliza Internetul pentru a sprijini procesul meu de predare si procesul de învăţare al elevilor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100000"/>
              </a:lnSpc>
              <a:spcBef>
                <a:spcPts val="451"/>
              </a:spcBef>
              <a:buClr>
                <a:srgbClr val="7f2e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7f2e00"/>
                </a:solidFill>
                <a:latin typeface="Verdana"/>
              </a:rPr>
              <a:t>Cum pot să asigur utlizarea responsabilă şi corespunzătoare a Internetului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Gandiţi-vă la modul în care cunoştinţele pe care le-aţi dobândit din acest modul vor avea impact asupra procesului de predare şi a procesului de învăţare al elevilor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0" y="166680"/>
            <a:ext cx="91440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atea  7</a:t>
            </a:r>
            <a:br>
              <a:rPr sz="26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 Reflec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ţie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asupra propriei 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ăţă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i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 pag 3.22/ 15 minute)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2" name="Object 6"/>
          <p:cNvGraphicFramePr/>
          <p:nvPr/>
        </p:nvGraphicFramePr>
        <p:xfrm>
          <a:off x="7773840" y="147600"/>
          <a:ext cx="1094040" cy="85428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6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73840" y="147600"/>
                    <a:ext cx="109404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1528-521A-45A3-944C-69C46FE30F72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3200" y="-3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lanificarea 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 avans</a:t>
            </a:r>
            <a:br>
              <a:rPr sz="2600"/>
            </a:b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Includerea Internetului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3.23/ 5 minute prezentar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general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5120" y="1133640"/>
            <a:ext cx="8307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63880" indent="-2638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aliz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ideile de brainstorming de la pagina 3.03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not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le dumneavoastr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de la pagina 3.21 pentru a integra Internetul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unitatea dumneavoastr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d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tabelul de la pagina 3.23, select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una sau mai multe instrumente Internet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descri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pe scurt moduril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care le v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utiliza pentru a sprijini obiectivele d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e ale unit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i dumneavoastr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Not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belul , c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â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link-urile adnotate c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e instrumentele suplimentare bazate pe web  sunt disponibil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directorul Modulul3/Planificarea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avans de pe CD-ul cu resurse curricular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) Cum ar putea oricare din urmatoarele tehnologii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bun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procesul d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e al elevilor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unitatea dumneavoastr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d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e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) Ce resurs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instruc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uni trebuie s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furniz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elevilor pentru a 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asigura c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utilizarea Internetului de c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e ac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a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bun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e procesul lor d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e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B8CC-C874-456D-B1E0-12DB31B6783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rm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orul modu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85840" y="1069920"/>
          <a:ext cx="8578800" cy="4240440"/>
        </p:xfrm>
        <a:graphic>
          <a:graphicData uri="http://schemas.openxmlformats.org/drawingml/2006/table">
            <a:tbl>
              <a:tblPr/>
              <a:tblGrid>
                <a:gridCol w="2611440"/>
                <a:gridCol w="5967360"/>
              </a:tblGrid>
              <a:tr h="487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4: Crearea e</a:t>
                      </a: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antioanelor de </a:t>
                      </a: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v</a:t>
                      </a: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unctul central:</a:t>
                      </a:r>
                      <a:r>
                        <a:rPr b="0" lang="en-US" sz="24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Obiectivele proiectului din perspectiva elevil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Obiective: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1840" indent="-23184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dentificarea strategiilor 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ş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 procedurilor de siguran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ţă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ş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 utilizarea corespunz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toare a Internetului (Politica Utiliz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ii Acceptabile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1840" indent="-23184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C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utarea celui mai bun instrument de prezentare pentru a demonstra ceea ce a 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v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ţ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at elevul :realizarea  unei publicatii, prezent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i, wiki sau blo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1840" indent="-23184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Trasarea Instruc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ţ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unilor procedurale pentru Unitatea de 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v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ţ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1840" indent="-23184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Autoevaluarea elevil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1840" indent="-23184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flec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ţ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ile 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v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tarii 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 blog-ul pers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4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FF3F-1FA7-4246-A090-89B02E11FD8A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115920"/>
            <a:ext cx="805788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Ce am studiat </a:t>
            </a:r>
            <a:r>
              <a:rPr b="1" lang="ro-RO" sz="2200" spc="-1" strike="noStrike">
                <a:solidFill>
                  <a:srgbClr val="0860a8"/>
                </a:solidFill>
                <a:latin typeface="Verdana"/>
              </a:rPr>
              <a:t>până acum</a:t>
            </a: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 ?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6920" y="1730160"/>
            <a:ext cx="4145040" cy="24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12362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ul 1: Predarea prin proiect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12362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Invătarea bazată pe proiect şi design-ul unităţii de învăţar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12362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12362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12362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ul 2: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</a:rPr>
              <a:t>Proiectarea propriei unităţi de învăţar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12362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Întrebările generatoare ale unităţii de învăţare şi evaluarea continuă centrată pe elev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55880" y="1371240"/>
            <a:ext cx="404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8" name="Picture 6" descr="IM000069"/>
          <p:cNvPicPr/>
          <p:nvPr/>
        </p:nvPicPr>
        <p:blipFill>
          <a:blip r:embed="rId1"/>
          <a:stretch/>
        </p:blipFill>
        <p:spPr>
          <a:xfrm>
            <a:off x="4381560" y="1382760"/>
            <a:ext cx="45054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F5AD-06EC-42B0-AE0E-896DF973EAA5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4835520" y="285840"/>
            <a:ext cx="8237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286080" y="1488960"/>
            <a:ext cx="485136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860a8"/>
                </a:solidFill>
                <a:latin typeface="Verdana"/>
              </a:rPr>
              <a:t>Computers are not magic. Teachers are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800360" y="123516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5219640" y="2739960"/>
            <a:ext cx="31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0860a8"/>
                </a:solidFill>
                <a:latin typeface="Verdana"/>
              </a:rPr>
              <a:t>Craig Barrett, Preşedinte INT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4CCF-EDD4-447C-9E73-29F501380A6B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5800" y="0"/>
            <a:ext cx="823752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nde ne af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lăm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 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17080" y="4118040"/>
            <a:ext cx="8645400" cy="1868400"/>
          </a:xfrm>
          <a:prstGeom prst="rect">
            <a:avLst/>
          </a:prstGeom>
          <a:noFill/>
          <a:ln w="9360">
            <a:solidFill>
              <a:srgbClr val="aa014c"/>
            </a:solidFill>
            <a:miter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Intrebarea esentială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Cum poate fi utilizată tehnologia în mod eficient pentru a susţine si evalua procesul de învătare al elevilor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Intrebări referitoare la modul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Cum pot utiliza Internetul pentru a sprijini procesul meu de predare si procesul de învătare al elevilor 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Cum se poate asigura o utilizare responsabilă si corespunzătoare a Internetului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28600" y="428760"/>
          <a:ext cx="8610480" cy="3671640"/>
        </p:xfrm>
        <a:graphic>
          <a:graphicData uri="http://schemas.openxmlformats.org/drawingml/2006/table">
            <a:tbl>
              <a:tblPr/>
              <a:tblGrid>
                <a:gridCol w="2338560"/>
                <a:gridCol w="6271920"/>
              </a:tblGrid>
              <a:tr h="41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e 3: Realizarea conexiunil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6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Elementul central: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Internetul ca suport al predării şi învăţăr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Obiective: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Utilizarea 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(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şi crearea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unui wiki pentru a schimba idei pentru atingerea standardelor (competenţe specifice /obiective de referinţă) într-o clasă centrată pe elev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nţelegerea legilor copyright-ului( dreptul de autor) şi utilizarea acesto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alizare de documente cu lucrări cit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ntegrarea si utilizarea resurselor Internet  în căutarea, comunicarea, colaborarea, rezolvarea problemelor pentru  dezvoltarea abilităţilor secolului XXI 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Utilizarea unei resurse de colaborare online pentru a schimba ide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flectarea asupra propriului proces de  învăţ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9CFA-0058-4544-9014-D2FAE28C4A7A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573120" y="328680"/>
            <a:ext cx="406872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</a:t>
            </a:r>
            <a:r>
              <a:rPr b="1" lang="ro-RO" sz="3200" spc="-1" strike="noStrike">
                <a:solidFill>
                  <a:srgbClr val="0860a8"/>
                </a:solidFill>
                <a:latin typeface="Verdana"/>
              </a:rPr>
              <a:t>ătre ce ne îndreptăm</a:t>
            </a: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5" name="Picture 19" descr="GM__2346"/>
          <p:cNvPicPr/>
          <p:nvPr/>
        </p:nvPicPr>
        <p:blipFill>
          <a:blip r:embed="rId1"/>
          <a:stretch/>
        </p:blipFill>
        <p:spPr>
          <a:xfrm>
            <a:off x="4659480" y="14400"/>
            <a:ext cx="4484520" cy="59958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47600" y="1881360"/>
            <a:ext cx="441504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 4: 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Crea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rea unor  produse-model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ale învăţării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Produsele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elevilor 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</a:rPr>
              <a:t>(pre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z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</a:rPr>
              <a:t>enta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re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</a:rPr>
              <a:t>, publica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ţie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</a:rPr>
              <a:t>, wiki, blog)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 5: Evaluarea proiectelor elevilor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Evaluare formativ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ă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 si sumativ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ă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 6: P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roiectarea pentru succesul elevilor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Sprijinirea elevilor şi stimularea autonomiei în învăţare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 7: Facilitare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a procesului predare-învăţare-evaluare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 prin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 intermediul tehnologiei informaţiei 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Profesorul ca facilitator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 8:Prezentarea portofoliilor unit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ă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tilor de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î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nv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ă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tare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Discutarea 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î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nv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ăţă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rii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B717-0567-4B9A-A336-36C1493AEAAD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6280" y="1695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Comunicarea în perechi şi schimb de idei asupra  experienţelor pentru a stabili nevoile elevilor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200" spc="-1" strike="noStrike">
                <a:solidFill>
                  <a:srgbClr val="0860a8"/>
                </a:solidFill>
                <a:latin typeface="Verdana"/>
              </a:rPr>
              <a:t>(3.01/30 de minute)</a:t>
            </a:r>
            <a:br>
              <a:rPr sz="1600"/>
            </a:b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5760" y="1993680"/>
            <a:ext cx="82375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Discutaţi </a:t>
            </a:r>
            <a:r>
              <a:rPr b="0" lang="ro-RO" sz="2000" spc="-1" strike="noStrike">
                <a:solidFill>
                  <a:srgbClr val="c00000"/>
                </a:solidFill>
                <a:latin typeface="Verdana"/>
              </a:rPr>
              <a:t>(în perechi)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Întrebările de generare a proiectelor şi extrageţi idei pentru îmbunătăţirea acestora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Partajaţi prezentarea dumneavoastră pentru a stabili nevoile elevilor. Furnizaţi răspunsuri la următoarele întrebări in timp ce discutaţi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are este scopul general al evaluării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e doriţi să învăţaţi de la elevii dumneavoastră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um aţi încercat să promovaţi abilitățile de gândire de ordin superior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um vă vor ajuta informaţiile de evaluare pe dumneavoastră şi pe elevii dumneavoastră în planificarea activităţilor viitoare din cadrul unităţii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Ce reacţii sau idei suplimentare căutaţi în decursul timpului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10C0-8947-44D9-84A7-ED3858C69AA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4840" y="167760"/>
            <a:ext cx="8667720" cy="15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ractici Pedagogice</a:t>
            </a:r>
            <a:br>
              <a:rPr sz="24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tingerea </a:t>
            </a: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competenţelor specifice/obiectivelor de referinţă în învăţarea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 centrat</a:t>
            </a: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 pe elev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(3.02/</a:t>
            </a:r>
            <a:r>
              <a:rPr b="0" lang="ro-RO" sz="1200" spc="-1" strike="noStrike">
                <a:solidFill>
                  <a:srgbClr val="0860a8"/>
                </a:solidFill>
                <a:latin typeface="Verdana"/>
              </a:rPr>
              <a:t>5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0 minute)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74680" y="1406160"/>
            <a:ext cx="823752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lvl="1" marL="238680" indent="-2372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iscuţii privind aspectele problematice şi posibilele soluţii pentru atingerea competenţelor specifice/obiectivelor de referinţă într-o clasă centrată pe elevi </a:t>
            </a:r>
            <a:r>
              <a:rPr b="0" lang="ro-RO" sz="1800" spc="-1" strike="noStrike">
                <a:solidFill>
                  <a:srgbClr val="c00000"/>
                </a:solidFill>
                <a:latin typeface="Verdana"/>
              </a:rPr>
              <a:t>(3 grupe)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38680" indent="-2372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Fiecare grupă discută o singură întrebar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54400" indent="-31428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um pot să mă asigur că elevii ating competenţele specifice/obiectivele de referinţă la nivel optim din punct de vedere calitativ şi cantitativ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54400" indent="-31428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n cazul în care elevii se ocupă de propriul proces de învăţare, cum putem noi fi siguri că învaţă ceea ce este important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54400" indent="-31428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um pot să mă asigur în cadrul echipei, fiecare elev îşi asumă sarcinile de lucru cu responsabilitate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38680" indent="-2372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O persoană din grupă se va conecta pe adresa site-ului web wiki şi va înregistra punctul de vedere al grupului respectiv: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38680" indent="-237240">
              <a:lnSpc>
                <a:spcPct val="90000"/>
              </a:lnSpc>
              <a:spcBef>
                <a:spcPts val="14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http://isc4lugojna.wikispaces.com/message/list/Modul+3</a:t>
            </a: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2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860a8"/>
              </a:solidFill>
              <a:latin typeface="Verdana"/>
            </a:endParaRPr>
          </a:p>
          <a:p>
            <a:pPr lvl="1" marL="238680" indent="-2372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nalizaţi paginile celorlalte echipe şi adăugaţi elemente în lista lor de soluţi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4F51-3987-4458-B443-06C2142C9637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atea 1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Identificarea şi selectarea abilităţilor necesare în secolul XXI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200" spc="-1" strike="noStrike">
                <a:solidFill>
                  <a:srgbClr val="3769ed"/>
                </a:solidFill>
                <a:latin typeface="Verdana"/>
              </a:rPr>
              <a:t>(3.03/ 25 minute/abilităţile secolului XXI- pag 1.02)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1880" y="2016000"/>
            <a:ext cx="8237520" cy="22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Gândiţi-vă la modalitaţi de includere a anumitor abilităţi ale secolului XXI în unitatea dvs. de învăţare, documentare, comunicare, colaborare şi rezolvare a problemelor;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200" spc="-1" strike="noStrike">
                <a:solidFill>
                  <a:srgbClr val="0860a8"/>
                </a:solidFill>
                <a:latin typeface="Verdana"/>
              </a:rPr>
              <a:t>MODUL 3, ACTIVITATEA 1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Trasaţi ideile pentru întrebările de la pagina  3.03. </a:t>
            </a:r>
            <a:r>
              <a:rPr b="1" i="1" lang="ro-RO" sz="1800" spc="-1" strike="noStrike">
                <a:solidFill>
                  <a:srgbClr val="0860a8"/>
                </a:solidFill>
                <a:latin typeface="Verdana"/>
              </a:rPr>
              <a:t>Identificarea şi selectarea competenţelor necesare în secolul XXI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ntr-un </a:t>
            </a:r>
            <a:r>
              <a:rPr b="0" lang="ro-RO" sz="1800" spc="-1" strike="noStrike">
                <a:solidFill>
                  <a:srgbClr val="c00000"/>
                </a:solidFill>
                <a:latin typeface="Verdana"/>
              </a:rPr>
              <a:t>grup mic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gândiţi-vă cum aţi putea include Internetul în clasa dumneavoastră pentru a îmbunătăţi procesul de învăţare al elevilor în ceea ce priveşte documentarea, comunicarea şi colaborarea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16" name="Object 4"/>
          <p:cNvGraphicFramePr/>
          <p:nvPr/>
        </p:nvGraphicFramePr>
        <p:xfrm>
          <a:off x="4051440" y="4734000"/>
          <a:ext cx="1257120" cy="9619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51440" y="4734000"/>
                    <a:ext cx="125712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Object 6" descr=""/>
          <p:cNvPicPr/>
          <p:nvPr/>
        </p:nvPicPr>
        <p:blipFill>
          <a:blip r:embed="rId3"/>
          <a:stretch/>
        </p:blipFill>
        <p:spPr>
          <a:xfrm>
            <a:off x="2003400" y="4724280"/>
            <a:ext cx="1166760" cy="8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F0CF-9D73-4BE9-B1BE-D31DB12DA34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7478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2</a:t>
            </a:r>
            <a:br>
              <a:rPr sz="2600"/>
            </a:b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Cunoașterea aspectelor legale şi etice cu privire la utilizarea tehnologiei 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(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45 minute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280" y="1725480"/>
            <a:ext cx="886320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as 1: Investigarea dreptului de autor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3.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860a8"/>
                </a:solidFill>
                <a:latin typeface="Verdana"/>
              </a:rPr>
              <a:t>Legile</a:t>
            </a:r>
            <a:r>
              <a:rPr b="0" i="1" lang="ro-RO" sz="2000" spc="-1" strike="noStrike">
                <a:solidFill>
                  <a:srgbClr val="0860a8"/>
                </a:solidFill>
                <a:latin typeface="Verdana"/>
              </a:rPr>
              <a:t> cu privire la </a:t>
            </a:r>
            <a:r>
              <a:rPr b="1" i="1" lang="ro-RO" sz="2000" spc="-1" strike="noStrike">
                <a:solidFill>
                  <a:srgbClr val="0860a8"/>
                </a:solidFill>
                <a:latin typeface="Verdana"/>
              </a:rPr>
              <a:t>drepturile de autor </a:t>
            </a:r>
            <a:r>
              <a:rPr b="0" i="1" lang="ro-RO" sz="2000" spc="-1" strike="noStrike">
                <a:solidFill>
                  <a:srgbClr val="0860a8"/>
                </a:solidFill>
                <a:latin typeface="Verdana"/>
              </a:rPr>
              <a:t>se bazează pe premisa că </a:t>
            </a:r>
            <a:r>
              <a:rPr b="1" i="1" lang="ro-RO" sz="2000" spc="-1" strike="noStrike">
                <a:solidFill>
                  <a:srgbClr val="0860a8"/>
                </a:solidFill>
                <a:latin typeface="Verdana"/>
              </a:rPr>
              <a:t>orice persoană care creează o operă materială originală merită să fie protejată şi recompensată.</a:t>
            </a:r>
            <a:r>
              <a:rPr b="0" i="1" lang="ro-RO" sz="2000" spc="-1" strike="noStrike">
                <a:solidFill>
                  <a:srgbClr val="0860a8"/>
                </a:solidFill>
                <a:latin typeface="Verdana"/>
              </a:rPr>
              <a:t> Oamenii au dreptul de a controla modul în care activitatea lor originală este utilizată de alţii.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7f2e00"/>
                </a:solidFill>
                <a:latin typeface="Verdana"/>
              </a:rPr>
              <a:t>Profesorii trebuie să înţeleagă ei înşişi şi să-i înveţe pe elevii lor cum să utilizeze materialele care fac obiectul dreptului de autor</a:t>
            </a:r>
            <a:r>
              <a:rPr b="0" i="1" lang="ro-RO" sz="1600" spc="-1" strike="noStrike">
                <a:solidFill>
                  <a:srgbClr val="7f2e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Parcurgeţi şi completaţi testul (6 itemi) privind drepturile de autor)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Vizualizaţi prezentarea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  “Haosul Drepturilor de autor”/ ”Copyright Chaos” // Salvați si completați Notițe drepturi auto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22" name="Object 5"/>
          <p:cNvGraphicFramePr/>
          <p:nvPr/>
        </p:nvGraphicFramePr>
        <p:xfrm>
          <a:off x="4057560" y="131760"/>
          <a:ext cx="1133640" cy="885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3" name="Object 5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57560" y="131760"/>
                    <a:ext cx="113364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6"/>
          <p:cNvGraphicFramePr/>
          <p:nvPr/>
        </p:nvGraphicFramePr>
        <p:xfrm>
          <a:off x="5600880" y="127080"/>
          <a:ext cx="1215720" cy="9493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25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00880" y="127080"/>
                    <a:ext cx="121572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7"/>
          <p:cNvGraphicFramePr/>
          <p:nvPr/>
        </p:nvGraphicFramePr>
        <p:xfrm>
          <a:off x="7134120" y="154080"/>
          <a:ext cx="1052640" cy="7668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27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134120" y="154080"/>
                    <a:ext cx="105264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47AE-A594-4A88-8E6A-0E45C815BCD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atea 2</a:t>
            </a:r>
            <a:br>
              <a:rPr sz="26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Discutarea aspectelor legale 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şi etice cu privire 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 utilizarea tehnologiei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5760" y="2019240"/>
            <a:ext cx="8237520" cy="36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as 2: Citarea surselor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(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3.05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Vizualizaţi resursele bibliografice şi exemplele din directorul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Modulul_3/Activitatea_2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/Lucrari citate/Sablon referinte APA) de pe CD-ul cu resurse curricular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Salvaţi formatul de bibliografie, formatul MLA sau formatul APA în folder-ul suport_unitate în portofoliul dumneavoastră de exemplu cu numele Bibliografie sau referinţe (MLA= Modern Language Association; APA= American Psychological Associati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Păstrează fişierele deschise pentru următoarele activităţ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info2</cp:lastModifiedBy>
  <cp:lastPrinted>2006-11-14T00:45:04Z</cp:lastPrinted>
  <dcterms:modified xsi:type="dcterms:W3CDTF">2011-03-18T17:43:50Z</dcterms:modified>
  <cp:revision>358</cp:revision>
  <dc:subject/>
  <dc:title>Presentation Title Goes Here</dc:title>
</cp:coreProperties>
</file>